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dt" idx="1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BCBF1-4D7A-42C0-BE23-A7FB2F77C0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18055-FB36-466A-AC0A-FC96BCD87D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70921-7D41-4C7F-9A27-8FF10B7A6C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23545-8A7C-4265-B7D9-BB28248456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F2B45-404A-4F00-948C-18EF07C8D9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8D7C1-C400-42D4-97E3-C4ABBA26C8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2C94C-0E04-428F-9D22-BDE7266889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66882-221F-48C8-AF2B-9697D887B9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92F4C-185E-4DC5-A2C7-1CAD4B2599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1842B-74AD-406C-8CB2-C3754BE6DB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AAABA-FAE8-4556-8286-B1530583EE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118BA-4F02-41EE-BB9C-71A5A383B5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CB9A2-A634-41BF-BDFF-A0855847B8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0262-7709-4383-B2FE-D35792DC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35AE-CCEE-4396-AC0E-9F048B67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9826-CFDB-469D-97C7-F8993BDC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BBFB-A510-4044-A5BC-9C240490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41C4-C807-4A0A-BA19-331BEAC1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494E-0051-4326-8791-240DEBA1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697C-5710-43EA-81B7-F2BDE7EA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445F-14C9-4858-B8A3-BE608471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3701-E3CE-4EA4-B799-745A1A72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4CD5-4BBC-40D5-A112-75F3473E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7123-F306-4C05-9A05-DD13887F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DC89-9420-4895-B5C0-B9166553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2186-6C46-48A9-B457-36F8D326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FE32-97C0-4B96-83A5-AABE0B8F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575C-9B5F-4E90-ABC8-B0D36EC3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04A4-31D6-4123-A23F-FB5EC2CF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5FF6-3BD8-4B0B-94B4-7203FF63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68F98-E7C9-4A16-AEA3-798BDFB2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292B7-9BCA-42D2-B635-7C759AFE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A6943-9659-4B6B-A7E3-3F2A104F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93590-EAF6-4912-B6F9-0D8E6432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9BAB2-9F6C-458B-ACA3-489CE0FE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00FE-AFCC-47D8-A5C4-AC24DA54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B10E0-0A76-4192-8E68-F95FA9B3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B79AB-70E8-4B56-808E-3CDF57E2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5BB91-2D7B-4275-AD3D-2F10D591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63F59-A5F0-4183-B95F-262B0907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DB836-DE48-4E8A-8A26-C29EA850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2CC9D-E486-47BF-8FCE-B4589E7C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5A81F-4C72-4C0D-ABF5-C9904497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DDD9A-70C5-4741-B98C-C1276208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15924-C168-4A66-8520-68D79463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FA55C-8AAC-45C5-AA9B-A3643EEE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D644-6412-4E68-BA96-3D1CBDC0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10360-F5F3-4D21-8F6C-2E8A14F8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92DC7-85BF-4BBA-B746-57B4B1A5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4DCD8-3AF7-4FCB-AFC1-C6C76D5A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63513-EC93-49BB-80F1-39561014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10A6B-AE2C-4570-BB72-BC41FC05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7F555-8C98-4447-96CF-935671FA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CAAB2-03B3-43A0-A5D1-6E499539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9D10F-169D-4258-97B8-8A0B0615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AD905-A8FB-49D7-ADAA-1A7EAA26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83159A-E7B9-45DA-A5A1-450F69DB4B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D773-FCFD-401B-94A9-AA8BB45D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C26A18-A303-41CA-97E7-970C4411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1DE0B6-854A-43F2-B0B8-ACC8B850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25FCF4-9CFC-4219-9578-6B5CBD13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BE5DB0-F637-47F1-B026-8B524998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D42A9B-1CE3-4A44-A17D-DDFD0CEC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3204A4-477C-47C7-9E76-BE933937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00233C-8139-4019-952E-1C8EC924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D72C21-0AE9-4AD5-8158-23873BDE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7E55FC-9231-4A9A-9C1B-8EDE62DC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FF8B1A-300B-4490-99A8-06F8A87C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176A-F3E6-412B-89C5-A21FDD0D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AD1780-64AA-462D-8A23-563B627A17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F49B-D68E-416C-AC5D-BD3163FA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F19C-93A7-4FB5-B2B7-EDFE4EAA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C493-C59F-43D1-A05F-E20309F2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20.5.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065C4D-C352-4408-8508-595CE20ED09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20.5.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3AE771-823F-4A8B-B0A4-48C8AC88409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20.5.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C1FDCC-0851-4997-A607-0D2AE6D3498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20.5.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CC0C11-C685-4460-B7E5-A07BA23763F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20.5.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524C4C-482B-44CE-9276-C42D80F0E04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714240"/>
            <a:ext cx="785160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ПОНИМАНИЕ – НАЧАЛО  СОГЛАС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23640" y="4797360"/>
            <a:ext cx="8429400" cy="1643040"/>
          </a:xfrm>
          <a:prstGeom prst="rect">
            <a:avLst/>
          </a:prstGeom>
          <a:noFill/>
          <a:ln w="0">
            <a:noFill/>
          </a:ln>
        </p:spPr>
        <p:txBody>
          <a:bodyPr rIns="18360" tIns="45000" bIns="450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ИЧИНЫ КОНФЛИКТОВ И СТИЛИ РАЗРЕШЕНИЯ КОНФЛИКТНЫХ СИТУАЦИЙ С ДЕТЬМ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Рисунок 3" descr=""/>
          <p:cNvPicPr/>
          <p:nvPr/>
        </p:nvPicPr>
        <p:blipFill>
          <a:blip r:embed="rId1"/>
          <a:stretch/>
        </p:blipFill>
        <p:spPr>
          <a:xfrm>
            <a:off x="2633760" y="2381400"/>
            <a:ext cx="3876480" cy="20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Times New Roman"/>
              </a:rPr>
              <a:t>ОСНОВНЫЕ ПРАВИЛА БЕСКОНФЛИКТНОГО ОБЩЕНИЯ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142920" y="1000080"/>
            <a:ext cx="878688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ните, что прямолинейность хороша, но не всегда. Критикуйте, но не злорадствуйте. Во всем надо знать меру. Сказать правду тоже надо уметь! Будьте независимы, но не самонадеянны. Не превращайте настойчивость в назойлив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ьте справедливы и терпимы к людям. Не переоценивайте свои способности и возможности и не умаляйте способности и возможности друг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проявляйте инициативу там, где в ней не нуждаю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ализуйте себя в творчестве, а не в конфлик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являйте выдержку, овладейте умениями саморегуляции. Уважение к людям, знание правил ведения спора, дискуссии, правил общения помогают предотвращать ненужные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конфликт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</a:rPr>
              <a:t>ПРАВИЛА ПРЕДУПРЕЖДЕНИЯ КОНФЛИКТО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0" y="1357200"/>
            <a:ext cx="91440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е говорите сразу со взвинченным, возбужденным человеком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ежде чем сказать о неприятном, постарайтесь создать доброжелательную атмосферу, отметьте заслуги человека, его хорошие дела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остарайтесь посмотреть на проблему глазами оппонента, постарайтесь «встать на его место»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е скрывайте доброго отношения к людям, чаще высказывайте одобрение своим товарищам, не скупитесь на похвалу;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мейте заставить себя молчать, когда вас задевают в мелкой ссоре, будьте выше мелочных разборок!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Times New Roman"/>
              </a:rPr>
              <a:t>Служба школьной медиаци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781200" y="1934640"/>
            <a:ext cx="8362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решение конфликта с помощью «третейского судьи» (соц педагог, психолог, зам директора по ВР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 этапа разбора конфликтной ситу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 оппонентов «снимаются» ложные образы ситуации и друг друг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нфликт всегда разрешает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се участники конфликта выходят из конфликта победителя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бы не навредить своему ребёнку, всегда обращайтесь в службу школьной медиации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20.5.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4560" y="333000"/>
            <a:ext cx="8569440" cy="1514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ведение родителя в ссоре между детьм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авило 1. Не всегда следует вмешиваться в ссоры между детьми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е мешайте детям получать такой жизненно важный опыт. Однако бывают ситуации, когда вмешательство взрослого необходимо.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авило 2. Вмешиваясь в детский конфликт, никогда не занимайте сразу позицию своего ребёнка, старайтесь вникнуть в суть конфлик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0" y="0"/>
            <a:ext cx="8434440" cy="1658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ведение родителя в ссоре между детьм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29840" y="1628640"/>
            <a:ext cx="87138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авило 3. Попробуйте приучить детей к мысли, что, кто бы ни начал ссору, ответственность за дальнейшее развитие событий несут  всегда двое. Поэтому, вмешиваясь в общение детей, старайтесь показать им, как можно найти способ выхода из трудной ситуации, который устроил бы их обоих, делайте акцент не на «кто виноват?», а на «что делать?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авило 4. Помогая детям выйти из конфликта и освободиться от накопившейся обиды и злости, следите за тем, чтобы они не переходили на лич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4"/>
          <p:cNvSpPr/>
          <p:nvPr/>
        </p:nvSpPr>
        <p:spPr>
          <a:xfrm>
            <a:off x="611280" y="1197000"/>
            <a:ext cx="7993080" cy="54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    Установите причину конфликта, стараясь услышать друг друга, и правильно понять друг дру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    Будьте тактич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    Ведите разговор по существ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.    Ищите компроми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.    Умейте признавать    свои ошибк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.    Умейте слушать и слышать друг дру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539640" y="308520"/>
            <a:ext cx="7632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b5395"/>
                </a:solidFill>
                <a:latin typeface="Arial"/>
              </a:rPr>
              <a:t>Конфликт учитель-род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Arial"/>
                <a:ea typeface="Arial"/>
              </a:rPr>
              <a:t>5 ОСНОВНЫХ ТИПОВ КОНФЛИКТНЫХ ЛИЧНОСТЕЙ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ДЕМОНСТРАТИВНЫЙ ТИ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РИГИДНЫЙ ТИ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НЕУПРАВЛЯЕМЫЙ ТИ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ВЕРХТОЧНЫЙ ТИ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БЕСКОНФЛИКТНЫЙ ТИ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  <a:ea typeface="Arial"/>
              </a:rPr>
              <a:t>Спасибо за работу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усть мы все почувствуем стремление к пониманию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усть свет добра и свет любви наполнит наши сердца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15200" cy="221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</a:rPr>
              <a:t>ЦЕЛЬ</a:t>
            </a:r>
            <a:r>
              <a:rPr b="0" lang="ru-RU" sz="3200" spc="-1" strike="noStrike">
                <a:solidFill>
                  <a:srgbClr val="04617b"/>
                </a:solidFill>
                <a:latin typeface="Times New Roman"/>
              </a:rPr>
              <a:t> – предоставление возможности участникам получить опыт конструктивного решения конфликтных ситуаций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214200" y="2500200"/>
            <a:ext cx="871560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14440" indent="-51300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учение методам нахождения решения в конфликтных ситуац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знакомить со способами решения конфликтных ситу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мочь участникам скорректировать свое поведение в сторону снижения его конфликтности (снять конфликтность в личностно-эмоциональной сфер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214200" y="928800"/>
            <a:ext cx="864396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о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словесное состязание, обсуждение чего-либо между двумя или несколькими лицами, при котором каждая из сторон отстаивает свое мн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флик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столкновение противоположно направленных, несовместимых друг с другом мнений, связанных с острыми отрицательными эмоциональными пережива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фликтная ситуац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противоречивые позиции сторон по какому-либо пов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циден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случай, происшествие (обычно неприятное), недоразумение, столкнов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</a:rPr>
              <a:t>ПРИЧИНЫ КОНФЛИКТО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ствия и обстоятельства, которые привели к изменению,                    ущемлению инте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личия в психологиче-                           ских особенностях                       (темперамент, характер,               потребности, мотивы                               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Рисунок 3" descr=""/>
          <p:cNvPicPr/>
          <p:nvPr/>
        </p:nvPicPr>
        <p:blipFill>
          <a:blip r:embed="rId1"/>
          <a:stretch/>
        </p:blipFill>
        <p:spPr>
          <a:xfrm>
            <a:off x="5143680" y="2143080"/>
            <a:ext cx="348588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</a:rPr>
              <a:t>ОЦЕНКА СОБСТВЕННОГО ПОВЕДЕНИЯ В КОНФЛИКТНОЙ СИТУАЦИ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142920" y="1428840"/>
            <a:ext cx="885816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арайтесь искренне ответить на вопрос: «Как вы обычно ведете себя в конфликтной ситуации или сп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вам свойственно то или иное поведение, поставьте соответствующее количество баллов после каждого номера ответа, характеризующего определенный стиль по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подобным образом вы ведете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АСТ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поставьте 3 бал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СЛУЧАЯ К СЛУЧАЮ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2 бал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ДК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1 ба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Times New Roman"/>
              </a:rPr>
              <a:t>5 ОСНОВНЫХ СТИЛЕЙ РАЗРЕШЕНИЯ КОНФЛИКТОВ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14440" indent="-51300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КЛОН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ГЛАЖИ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ИНУЖ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ОМПРОМИ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ЕШЕНИЕ ПРОБЛЕМЫ (СОТРУДНИЧЕСТВ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</a:rPr>
              <a:t>АСПЕКТЫ ОСОЗНАННОСТИ И НЕОСОЗНАННОСТИ В КОНФЛИКТ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фликты, происходящие от непонимания ситуации, неумения себя вести (промолчать, сдержаться и т.д.), т.е. неосозна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фликты, возникающие сознательно по воле, по меньшей мере одной из конфликтующих сторон, с целью «выплеснуть» на собеседника свою агрессивность, снять напря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Times New Roman"/>
              </a:rPr>
              <a:t>АГРЕССИВНОСТЬ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285840" y="1285920"/>
            <a:ext cx="840096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14440" indent="-5130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грессив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лат. Aggredi-нападать) – поведение человека в отношении других людей, которое отличается стремлением причинить им неприятности, нанести вр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и основных способа снятия                       агрессив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ссив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ив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г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Рисунок 3" descr=""/>
          <p:cNvPicPr/>
          <p:nvPr/>
        </p:nvPicPr>
        <p:blipFill>
          <a:blip r:embed="rId1"/>
          <a:stretch/>
        </p:blipFill>
        <p:spPr>
          <a:xfrm>
            <a:off x="6372360" y="2205000"/>
            <a:ext cx="25923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</a:rPr>
              <a:t>УРОВЕНЬ КОНФЛИКТНОСТИ ЛИЧНОСТ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струкция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ответе на вопрос выберите один вариант ответа, под конкретной буквой, запишите букву после номера во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работка результатов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ответы к каждому вопросу имеют свою оценку в баллах. Замените выбранные вами буквы баллами и подсчитайте общую сумму набранных вами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Черноокие</cp:lastModifiedBy>
  <dcterms:modified xsi:type="dcterms:W3CDTF">2020-05-11T15:52:39Z</dcterms:modified>
  <cp:revision>19</cp:revision>
  <dc:subject/>
  <dc:title>ПОНИМАНИЕ – НАЧАЛО  СОГЛАСИЯ</dc:title>
</cp:coreProperties>
</file>